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2E183B4-4C3C-4B71-8273-7AD93EFD59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655196-A70F-4D57-94A6-F81C1745F0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F99ACA1-34E4-47A7-89E1-35FD42C439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97FE32B-3224-41A5-A5C0-D284A3F1B9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73B7C5-5D30-460C-B0E9-802D0D0F7F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6CD000-34FB-456E-A766-A844080403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842BC2-BB8E-48B7-B7E9-D660E63755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DC5DDD-9BAA-4A94-BD41-C81C04CDB2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2D82DD-B00D-4DD1-B24B-678D841F48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63A4D3-9629-49D0-B568-F2CEE380A6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F24BFF-8867-4C12-A781-6BA0558C5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671FE8-C380-4EA0-903C-5A8D141B3F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FF51C-C082-434C-A563-D331763DD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227D3-07E5-4216-ABEB-7FD74F788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22F87F-D4EC-4751-9F75-9652AF3B7D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3EA582-879A-4F52-9ED0-FC61AB395B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BD56AC-68D8-4FE9-BBF0-2DEEAABCA5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2BEC89-4928-4B57-8308-118AF7E77E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CFC550-E64F-4960-86DA-14F36CBEAA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CA15DC-E66A-415E-B57A-33060A709A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01A7CF4-27BD-47D2-A782-D586D7CA0E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46354D-8E4E-4E50-BA78-190C1B6A6C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5D5718-5168-46C5-AD6D-1C50F74F6E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C35A7E-83B7-4A19-B60C-FB0FC633802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BDE66-1893-49ED-80CD-BDEE8869A2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7250A-7570-49C0-9D07-FFAAADBC60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2062080"/>
            <a:ext cx="6019920" cy="1719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Software Configuration Management – 1</a:t>
            </a:r>
            <a:endParaRPr b="0" lang="en-US" sz="46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360" rIns="90360" tIns="44280" bIns="44280" anchor="t">
            <a:no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ecture # 33</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61795CC2-995C-44A6-B235-F590561021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pose of SCM Activities</a:t>
            </a: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chang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chang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 that the change is being properly implement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changes to others who may be interest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6C9954-43EF-446D-9DEF-A433A7B8E0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we don’t control change, it will control u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very easy for a stream of uncontrolled changes to turn a well-run software project into cha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at reason, SCM is an essential part of good project management and is a solid software engineering practic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594247-4E37-4ED1-BA16-E5A26D8FD3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ftware Configuration Management - 2</a:t>
            </a:r>
            <a:endParaRPr b="0" lang="en-US" sz="40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SCM provides a cover against</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visibility</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control</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traceability</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monitoring</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controlled chang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340F084-5047-4705-B228-4F9021CB2C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ftware Configuration Management - 3</a:t>
            </a:r>
            <a:endParaRPr b="0" lang="en-US" sz="40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configuration management provides a means for visibility, traceability, and formally controlling the evolution of softwar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M should be viewed as a software quality assurance activity that is applied throughout the software proces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now have more detailed discussion on software configuration manage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1FA5A61-FA93-4284-AC66-5C87AF7B50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Configuration</a:t>
            </a: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1000"/>
          </a:bodyPr>
          <a:p>
            <a:pPr marL="312120" indent="-3121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tems that comprise all information produced as part of the software process are collectively called a software configuration</a:t>
            </a:r>
            <a:endParaRPr b="0" lang="en-US" sz="32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 programs (source and executable)</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s that describe the computer programs</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p>
            <a:pPr marL="312120" indent="-3121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configuration items will grow</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772133-7101-417F-A6E4-EF9CC0CD59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e - A Constant - 1</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mber of configuration items in a software project will grow continuously and the changes within each configuration item will also occur on a frequent basi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we can say that</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thing permanent except change</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clitus (500 B.C.)</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00F0F2-3049-4509-933F-DBB4C3DE67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e - A Constant - 2</a:t>
            </a:r>
            <a:endParaRPr b="0" lang="en-US" sz="4400" spc="-1" strike="noStrike">
              <a:solidFill>
                <a:srgbClr val="000000"/>
              </a:solidFill>
              <a:latin typeface="Arial"/>
            </a:endParaRPr>
          </a:p>
        </p:txBody>
      </p:sp>
      <p:sp>
        <p:nvSpPr>
          <p:cNvPr id="137"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fontScale="95000"/>
          </a:bodyPr>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matter where you are in the system life cycle, the system will change, and the desire to change it will persist throughout the life cycle</a:t>
            </a:r>
            <a:endParaRPr b="0" lang="en-US" sz="2800" spc="-1" strike="noStrike">
              <a:solidFill>
                <a:srgbClr val="000000"/>
              </a:solidFill>
              <a:latin typeface="Arial"/>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is like a sponge due to its susceptibility to change</a:t>
            </a:r>
            <a:endParaRPr b="0" lang="en-US" sz="2800" spc="-1" strike="noStrike">
              <a:solidFill>
                <a:srgbClr val="000000"/>
              </a:solidFill>
              <a:latin typeface="Arial"/>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emphasize this point, because this is the first step in planning and implementing a good software configuration management proces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BF789B9-0323-45AE-97BA-841689A0A6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 of Change - 1</a:t>
            </a: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business or market conditions dictate changes in product requirements or business rules</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customer needs demand modification of data produced by information systems, functionality delivered by products, or services delivered by computer-based syste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462010-1CA8-4C06-BB53-0B4600D0AF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 of Change - 2</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organization or business growth / downsizing  causes changes in project priorities or software engineering team structu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dgetary or scheduling constraints cause a redefinition of the system or produc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13444B-86E3-4290-886F-F4C74BAAAE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e is Everywhere</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s want to modify requiremen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ers want to modify the technical approa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rs want to modify the project strateg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05F51F-EFF7-422F-87D2-0B38FE0CCC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ap</a:t>
            </a: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last several lectures, we have talked about software testing</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testing is an important and integral process in software development and often the only mechanism for software quality assuranc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E60854-13FA-4063-A32F-D878B0C26B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All This Modification?</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time passes, all constituencies know mor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out what they need</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approach would be bes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get it done and still make money</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ost changes are justifi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5B60BF-DFED-4E61-862C-EAED342B0B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in the software industry need to be ready to manage and implement changes in configuration ite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eed to have mechanisms in place to manage changes in all work products, in all processes of softwar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n apply the concept of baselin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8CFAC7-993A-428E-B3FA-E728800425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Manage Change?</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aseline is a software configuration management concept that helps us to control change without seriously impeding justifiable chang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FDE5EC-B205-4CCA-BD2F-CE68847C41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lin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pecification or product that has been formally reviewed and agreed upon, that thereafter serves as the basis for further development, and that can be changed only through formal change control procedure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Std. No. 610.12-1990</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F1DFC96-DB4D-412F-83FD-52BAB9CE03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fore a software configuration item becomes a baseline, change may be made quickly and informall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once a baseline is established, changes </a:t>
            </a:r>
            <a:r>
              <a:rPr b="0" lang="en-US" sz="3200" spc="-1" strike="noStrike">
                <a:solidFill>
                  <a:srgbClr val="9999cc"/>
                </a:solidFill>
                <a:latin typeface="Arial"/>
              </a:rPr>
              <a:t>can be made</a:t>
            </a:r>
            <a:r>
              <a:rPr b="0" lang="en-US" sz="3200" spc="-1" strike="noStrike">
                <a:solidFill>
                  <a:srgbClr val="000000"/>
                </a:solidFill>
                <a:latin typeface="Arial"/>
              </a:rPr>
              <a:t>, but a specific, formal procedure must be applied to evaluate and verify each change reques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2D1412-3F6F-4391-930B-2AD6B541DE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context of software engineering, a baseline is a milestone in the development of software that is marked by the delivery of one or more software configuration items and approval of these software configuration items is obtained through a formal technical review or inspec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D459C0-2203-4154-A7B0-7656BB7920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 work products that are base-lined are</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specification</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requirement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specification</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 code</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plans/procedures/data</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al syste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19688F7-C1D6-4D58-91E9-86076298E5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3000"/>
          </a:bodyPr>
          <a:p>
            <a:pPr marL="318960" indent="-31896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CM is an important element of SQA program</a:t>
            </a:r>
            <a:endParaRPr b="0" lang="en-US" sz="3000" spc="-1" strike="noStrike">
              <a:solidFill>
                <a:srgbClr val="000000"/>
              </a:solidFill>
              <a:latin typeface="Arial"/>
            </a:endParaRPr>
          </a:p>
          <a:p>
            <a:pPr marL="318960" indent="-31896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s primary responsibility is the control of change</a:t>
            </a:r>
            <a:endParaRPr b="0" lang="en-US" sz="3000" spc="-1" strike="noStrike">
              <a:solidFill>
                <a:srgbClr val="000000"/>
              </a:solidFill>
              <a:latin typeface="Arial"/>
            </a:endParaRPr>
          </a:p>
          <a:p>
            <a:pPr marL="318960" indent="-31896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discussion of SCM introduces a set of following complex questions. Listen carefully to these questions.  Each one of them is related to one or more aspect of software quality</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88FA1DEC-2640-4859-848D-84A49807FF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M Questions - 1</a:t>
            </a:r>
            <a:endParaRPr b="0" lang="en-US" sz="44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an organization identify and manage the many existing versions of a program (and its documentation) in a manner that will enable change to be accommodated efficiently?</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an organization control changes before and after software is released to a customer?</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0FF6B2-E8C5-4541-A0D6-72AF73AD28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M Questions - 2</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has the responsibility for approving and ranking chang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we ensure that changes have been made properl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mechanism is used to appraise others of changes that are mad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148C4A-9149-49D2-9A39-4F06FF1F86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ay’s Lecture</a:t>
            </a:r>
            <a:endParaRPr b="0" lang="en-US" sz="44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3000"/>
          </a:bodyPr>
          <a:p>
            <a:pPr marL="318960" indent="-31896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arting today, we’ll move to another important area critical to software quality assurance</a:t>
            </a:r>
            <a:endParaRPr b="0" lang="en-US" sz="3000" spc="-1" strike="noStrike">
              <a:solidFill>
                <a:srgbClr val="000000"/>
              </a:solidFill>
              <a:latin typeface="Arial"/>
            </a:endParaRPr>
          </a:p>
          <a:p>
            <a:pPr marL="318960" indent="-31896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area is software configuration management </a:t>
            </a:r>
            <a:endParaRPr b="0" lang="en-US" sz="3000" spc="-1" strike="noStrike">
              <a:solidFill>
                <a:srgbClr val="000000"/>
              </a:solidFill>
              <a:latin typeface="Arial"/>
            </a:endParaRPr>
          </a:p>
          <a:p>
            <a:pPr marL="318960" indent="-31896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oday’s lecture, we’ll introduce the basic concepts of software configuration management and develop a foundation for further discussions in later lectures</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49470C19-C386-4F70-95F5-42609652E8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questions lead us to definition of five SCM function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733205-F47D-407D-83C6-312F41D3437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M Functions</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cation of software configuration ite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sion contro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contro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udi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accounting/reporting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EA3BA4-417E-449F-AB49-C79B38FB11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M Function: Identification</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ontrol and manage software configuration items, each item must be separately named or numbered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dentification scheme is documented in the software configuration management pla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nique identification of each SCI helps in organization and retrieval of configuration item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51CFE7C-301B-43AE-A677-7B16BECD699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M Function: Version Control - 1</a:t>
            </a:r>
            <a:endParaRPr b="0" lang="en-US" sz="40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sion control combines procedures and tools to manage different versions of configuration items that are created during the software proc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aming scheme for SCIs should incorporate the version number</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F4B36B-EE86-45BD-AB53-1D2E8055A56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M Function: Version Control - 2</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ation management allows a user to specify alternative configurations of the software system through the selection of appropriate version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supported by associating attributes with each software version, and then allowing a configuration to be specified [and constructed] by describing the set of attribut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7C5F965-6F36-44AA-BF5C-84C87ECEA4B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M Function: Change Control - 1</a:t>
            </a:r>
            <a:endParaRPr b="0" lang="en-US" sz="40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control is vital</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 much change control and we create problems.  Too little, and we create other problems (</a:t>
            </a:r>
            <a:r>
              <a:rPr b="0" lang="en-US" sz="3200" spc="-1" strike="noStrike">
                <a:solidFill>
                  <a:srgbClr val="9999cc"/>
                </a:solidFill>
                <a:latin typeface="Arial"/>
              </a:rPr>
              <a:t>elaborate this point more</a:t>
            </a:r>
            <a:r>
              <a:rPr b="0" lang="en-US" sz="3200" spc="-1" strike="noStrike">
                <a:solidFill>
                  <a:srgbClr val="000000"/>
                </a:solidFill>
                <a:latin typeface="Arial"/>
              </a:rPr>
              <a:t>)</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 of progress is to preserve order amid change and to preserve change amid order</a:t>
            </a:r>
            <a:endParaRPr b="0" lang="en-US" sz="3200" spc="-1" strike="noStrike">
              <a:solidFill>
                <a:srgbClr val="000000"/>
              </a:solidFill>
              <a:latin typeface="Arial"/>
            </a:endParaRPr>
          </a:p>
          <a:p>
            <a:pPr lvl="1" marL="705600" indent="-2714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fred North Whitehea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64D4356-6FE9-46EA-AE44-A9BE617AE3C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M Function: Change Control - 2</a:t>
            </a:r>
            <a:endParaRPr b="0" lang="en-US" sz="40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large projects, uncontrolled change rapidly leads to cha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medium to large projects, change control combines human procedures and automated tools to provide a mechanism for the control of chang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3B7F0E-FD39-4204-844D-8ED8DCD4340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M Function: Configuration Audit - 1</a:t>
            </a:r>
            <a:endParaRPr b="0" lang="en-US" sz="4000" spc="-1" strike="noStrike">
              <a:solidFill>
                <a:srgbClr val="000000"/>
              </a:solidFill>
              <a:latin typeface="Arial"/>
            </a:endParaRPr>
          </a:p>
        </p:txBody>
      </p:sp>
      <p:sp>
        <p:nvSpPr>
          <p:cNvPr id="179"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we ensure that the approved changes have been implemented?</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Formal technical reviews/inspections</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es on the technical correctness of the modified item.  The reviewers/inspectors assess the SCI to determine consistency with other SCIs, omissions, or potential side effects</a:t>
            </a:r>
            <a:endParaRPr b="0" lang="en-US" sz="24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Software configuration audi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3FB21EA-91BC-463C-BD6D-26E6DC63DF2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M Function: Configuration Audit - 2</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oftware configuration audit complements the formal technical reviews/inspections by assessing a configuration item for characteristics that are generally not considered during review</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CM audit is conducted by the quality assurance group</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CFE207-CB5C-4198-8E38-C7ACF42A0E5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M Function: Status Accounting/Reporting</a:t>
            </a:r>
            <a:endParaRPr b="0" lang="en-US" sz="4400" spc="-1" strike="noStrike">
              <a:solidFill>
                <a:srgbClr val="000000"/>
              </a:solidFill>
              <a:latin typeface="Arial"/>
            </a:endParaRPr>
          </a:p>
        </p:txBody>
      </p:sp>
      <p:sp>
        <p:nvSpPr>
          <p:cNvPr id="183"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atus accounting function provides a corporate memory of project events that supports accomplishment of other configuration management items</a:t>
            </a:r>
            <a:endParaRPr b="0" lang="en-US" sz="32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ppened?</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did it?</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did it happen?</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else will be affecte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6E54DC0-ABC5-474E-B0CD-5EEF3ADBFDE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is inevitable when software is buil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s will happen in all work products and during all processes during software development and mainten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increases the level of confusion among software engineers who are working on a software projec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41EF42-8524-42FF-8A27-1A01F6342034}"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8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oday’s lecture, we have discussed the basic concepts of software configuration manage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continue our discussion on this topics and we’ll explore issues related to software configuration management in the next few lectur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7002EE-3722-4336-ABD0-516155B562F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18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Engineering: A Practitioner’s Approach by Roger S. Pressman (Chapter 9.1-9.2)</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F2D2AC-551A-4DFB-963E-997BC14A5893}"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usion</a:t>
            </a: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usion arises when changes are not</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nalyzed</a:t>
            </a:r>
            <a:r>
              <a:rPr b="0" lang="en-US" sz="2800" spc="-1" strike="noStrike">
                <a:solidFill>
                  <a:srgbClr val="000000"/>
                </a:solidFill>
                <a:latin typeface="Arial"/>
              </a:rPr>
              <a:t> before they are made</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Recorded</a:t>
            </a:r>
            <a:r>
              <a:rPr b="0" lang="en-US" sz="2800" spc="-1" strike="noStrike">
                <a:solidFill>
                  <a:srgbClr val="000000"/>
                </a:solidFill>
                <a:latin typeface="Arial"/>
              </a:rPr>
              <a:t> before they are implemented</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Reported</a:t>
            </a:r>
            <a:r>
              <a:rPr b="0" lang="en-US" sz="2800" spc="-1" strike="noStrike">
                <a:solidFill>
                  <a:srgbClr val="000000"/>
                </a:solidFill>
                <a:latin typeface="Arial"/>
              </a:rPr>
              <a:t> to those who need to know</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ontrolled</a:t>
            </a:r>
            <a:r>
              <a:rPr b="0" lang="en-US" sz="2800" spc="-1" strike="noStrike">
                <a:solidFill>
                  <a:srgbClr val="000000"/>
                </a:solidFill>
                <a:latin typeface="Arial"/>
              </a:rPr>
              <a:t> in a manner that will improve quality and reduce error</a:t>
            </a:r>
            <a:endParaRPr b="0" lang="en-US" sz="28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cc"/>
                </a:solidFill>
                <a:latin typeface="Arial"/>
              </a:rPr>
              <a:t>We need to minimize</a:t>
            </a:r>
            <a:r>
              <a:rPr b="0" lang="en-US" sz="3200" spc="-1" strike="noStrike">
                <a:solidFill>
                  <a:srgbClr val="000000"/>
                </a:solidFill>
                <a:latin typeface="Arial"/>
              </a:rPr>
              <a:t> this confusion, or else our projects will get out of control</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0094CA-F5F2-49F7-8BE0-CCA5B1B953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guration Management - 1</a:t>
            </a:r>
            <a:endParaRPr b="0" lang="en-US" sz="44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 of coordinating software development to minimize …confusion is called </a:t>
            </a:r>
            <a:r>
              <a:rPr b="0" lang="en-US" sz="3200" spc="-1" strike="noStrike">
                <a:solidFill>
                  <a:srgbClr val="990000"/>
                </a:solidFill>
                <a:latin typeface="Arial"/>
              </a:rPr>
              <a:t>configuration managemen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7CFB20-6570-4FBC-B70E-7C86B00CEC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guration Management - 2</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management is the art of </a:t>
            </a:r>
            <a:r>
              <a:rPr b="0" lang="en-US" sz="3200" spc="-1" strike="noStrike">
                <a:solidFill>
                  <a:srgbClr val="9999cc"/>
                </a:solidFill>
                <a:latin typeface="Arial"/>
              </a:rPr>
              <a:t>identifying</a:t>
            </a:r>
            <a:r>
              <a:rPr b="0" lang="en-US" sz="3200" spc="-1" strike="noStrike">
                <a:solidFill>
                  <a:srgbClr val="000000"/>
                </a:solidFill>
                <a:latin typeface="Arial"/>
              </a:rPr>
              <a:t>, </a:t>
            </a:r>
            <a:r>
              <a:rPr b="0" lang="en-US" sz="3200" spc="-1" strike="noStrike">
                <a:solidFill>
                  <a:srgbClr val="9999cc"/>
                </a:solidFill>
                <a:latin typeface="Arial"/>
              </a:rPr>
              <a:t>organizing</a:t>
            </a:r>
            <a:r>
              <a:rPr b="0" lang="en-US" sz="3200" spc="-1" strike="noStrike">
                <a:solidFill>
                  <a:srgbClr val="000000"/>
                </a:solidFill>
                <a:latin typeface="Arial"/>
              </a:rPr>
              <a:t>, and </a:t>
            </a:r>
            <a:r>
              <a:rPr b="0" lang="en-US" sz="3200" spc="-1" strike="noStrike">
                <a:solidFill>
                  <a:srgbClr val="9999cc"/>
                </a:solidFill>
                <a:latin typeface="Arial"/>
              </a:rPr>
              <a:t>controlling</a:t>
            </a:r>
            <a:r>
              <a:rPr b="0" lang="en-US" sz="3200" spc="-1" strike="noStrike">
                <a:solidFill>
                  <a:srgbClr val="000000"/>
                </a:solidFill>
                <a:latin typeface="Arial"/>
              </a:rPr>
              <a:t> </a:t>
            </a:r>
            <a:r>
              <a:rPr b="0" lang="en-US" sz="3200" spc="-1" strike="noStrike">
                <a:solidFill>
                  <a:srgbClr val="990000"/>
                </a:solidFill>
                <a:latin typeface="Arial"/>
              </a:rPr>
              <a:t>modifications</a:t>
            </a:r>
            <a:r>
              <a:rPr b="0" lang="en-US" sz="3200" spc="-1" strike="noStrike">
                <a:solidFill>
                  <a:srgbClr val="000000"/>
                </a:solidFill>
                <a:latin typeface="Arial"/>
              </a:rPr>
              <a:t> to the software being built by a programming team</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al is to </a:t>
            </a:r>
            <a:r>
              <a:rPr b="0" lang="en-US" sz="3200" spc="-1" strike="noStrike">
                <a:solidFill>
                  <a:srgbClr val="003300"/>
                </a:solidFill>
                <a:latin typeface="Arial"/>
              </a:rPr>
              <a:t>maximize productivity</a:t>
            </a:r>
            <a:r>
              <a:rPr b="0" lang="en-US" sz="3200" spc="-1" strike="noStrike">
                <a:solidFill>
                  <a:srgbClr val="000000"/>
                </a:solidFill>
                <a:latin typeface="Arial"/>
              </a:rPr>
              <a:t> by </a:t>
            </a:r>
            <a:r>
              <a:rPr b="0" lang="en-US" sz="3200" spc="-1" strike="noStrike">
                <a:solidFill>
                  <a:srgbClr val="9999cc"/>
                </a:solidFill>
                <a:latin typeface="Arial"/>
              </a:rPr>
              <a:t>minimizing mistak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4C8744-24A9-4B4B-944E-5B6DFEC563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ftware Configuration Management - 1</a:t>
            </a:r>
            <a:endParaRPr b="0" lang="en-US" sz="40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configuration management (or SCM) is an </a:t>
            </a:r>
            <a:r>
              <a:rPr b="0" lang="en-US" sz="3200" spc="-1" strike="noStrike">
                <a:solidFill>
                  <a:srgbClr val="9999cc"/>
                </a:solidFill>
                <a:latin typeface="Arial"/>
              </a:rPr>
              <a:t>umbrella</a:t>
            </a:r>
            <a:r>
              <a:rPr b="0" lang="en-US" sz="3200" spc="-1" strike="noStrike">
                <a:solidFill>
                  <a:srgbClr val="000000"/>
                </a:solidFill>
                <a:latin typeface="Arial"/>
              </a:rPr>
              <a:t> activity that is applied throughout the software proc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ans that SCM is not tied to one process model or another, instead it used in all instances of software development process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972624-8BD5-4B71-9796-E15BCA9CBA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M is a set of activities designed to </a:t>
            </a:r>
            <a:r>
              <a:rPr b="0" lang="en-US" sz="3200" spc="-1" strike="noStrike">
                <a:solidFill>
                  <a:srgbClr val="9999cc"/>
                </a:solidFill>
                <a:latin typeface="Arial"/>
              </a:rPr>
              <a:t>control change</a:t>
            </a:r>
            <a:r>
              <a:rPr b="0" lang="en-US" sz="3200" spc="-1" strike="noStrike">
                <a:solidFill>
                  <a:srgbClr val="000000"/>
                </a:solidFill>
                <a:latin typeface="Arial"/>
              </a:rPr>
              <a:t> by identifying the work products that are likely to change, </a:t>
            </a:r>
            <a:r>
              <a:rPr b="0" lang="en-US" sz="3200" spc="-1" strike="noStrike">
                <a:solidFill>
                  <a:srgbClr val="9999cc"/>
                </a:solidFill>
                <a:latin typeface="Arial"/>
              </a:rPr>
              <a:t>establish relationships</a:t>
            </a:r>
            <a:r>
              <a:rPr b="0" lang="en-US" sz="3200" spc="-1" strike="noStrike">
                <a:solidFill>
                  <a:srgbClr val="000000"/>
                </a:solidFill>
                <a:latin typeface="Arial"/>
              </a:rPr>
              <a:t> among them, </a:t>
            </a:r>
            <a:r>
              <a:rPr b="0" lang="en-US" sz="3200" spc="-1" strike="noStrike">
                <a:solidFill>
                  <a:srgbClr val="9999cc"/>
                </a:solidFill>
                <a:latin typeface="Arial"/>
              </a:rPr>
              <a:t>defining mechanisms</a:t>
            </a:r>
            <a:r>
              <a:rPr b="0" lang="en-US" sz="3200" spc="-1" strike="noStrike">
                <a:solidFill>
                  <a:srgbClr val="000000"/>
                </a:solidFill>
                <a:latin typeface="Arial"/>
              </a:rPr>
              <a:t> for managing different versions of these work products, </a:t>
            </a:r>
            <a:r>
              <a:rPr b="0" lang="en-US" sz="3200" spc="-1" strike="noStrike">
                <a:solidFill>
                  <a:srgbClr val="9999cc"/>
                </a:solidFill>
                <a:latin typeface="Arial"/>
              </a:rPr>
              <a:t>controlling the changes</a:t>
            </a:r>
            <a:r>
              <a:rPr b="0" lang="en-US" sz="3200" spc="-1" strike="noStrike">
                <a:solidFill>
                  <a:srgbClr val="000000"/>
                </a:solidFill>
                <a:latin typeface="Arial"/>
              </a:rPr>
              <a:t> imposed, and </a:t>
            </a:r>
            <a:r>
              <a:rPr b="0" lang="en-US" sz="3200" spc="-1" strike="noStrike">
                <a:solidFill>
                  <a:srgbClr val="9999cc"/>
                </a:solidFill>
                <a:latin typeface="Arial"/>
              </a:rPr>
              <a:t>auditing and reporting</a:t>
            </a:r>
            <a:r>
              <a:rPr b="0" lang="en-US" sz="3200" spc="-1" strike="noStrike">
                <a:solidFill>
                  <a:srgbClr val="000000"/>
                </a:solidFill>
                <a:latin typeface="Arial"/>
              </a:rPr>
              <a:t> on the chang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0BF458-39F4-4A80-A594-4EC87A8EA8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6T05:58:02Z</dcterms:created>
  <dc:creator>Ghulam Ahmad Farrukh</dc:creator>
  <dc:description/>
  <dc:language>en-US</dc:language>
  <cp:lastModifiedBy>ahmadmohsin</cp:lastModifiedBy>
  <dcterms:modified xsi:type="dcterms:W3CDTF">2009-06-22T05:09:56Z</dcterms:modified>
  <cp:revision>92</cp:revision>
  <dc:subject/>
  <dc:title>SCM and Quality Assurance</dc:title>
</cp:coreProperties>
</file>